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0FD3-878F-4B0D-BD02-30060BE6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EB2-A6CD-4BE8-BCE8-785C443D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E7B4-3B8E-47F7-A720-0AEF7A06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F60C-C962-45EA-A536-975C9DB5F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EBD-4CB5-4CE7-8675-66F411B2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27D-B4F6-4A64-B5A2-B55AE921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EEF-19FF-44B5-9BD8-B141611B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560-40D4-444B-A250-0D90F4FE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D73-68AC-4EF4-9710-CC52133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985-FE6B-4AB0-B99D-B9DED61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0B7-8699-401F-8AA2-8842D8F2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CC6-313A-4FFF-9003-A5042634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22AB-74C3-46AF-BBC5-22C35E4A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D47-CE78-44A7-A8F0-8044465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4837-B164-4E60-9848-7C76A10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9789-7EC4-48E8-91C7-80089F3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F90D-F42C-4582-A3F9-16320F31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C0A3-7D64-4A59-AF93-1CEA03A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20B-1167-4F92-A670-E8B3459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808-02C2-4082-8DCF-9671A4E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20A-259C-4B48-9175-374019C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0977-D71D-4CB4-AC9A-7E47E0E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B0DE-F7B5-4E20-AB0B-5CC76093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771-E6D7-4B6D-A81E-13A6F0CC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6DE-398C-4E42-93B4-981F6495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01C-ED24-4400-B881-94D798F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8C6-7EA5-4C0E-8110-C7F370F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767-C943-487D-8437-802949B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84C-2EB9-4163-8569-79A343F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688-C550-45A6-9192-930B6C3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42B-9105-4068-93F4-1903F56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91B-6F55-4613-AD2C-B64442F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A87-2128-4FD0-B08C-AA7ECC20E82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3E3-0B83-4467-8A12-274400EF3E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Literature Circle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s. Bouska’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Grade Cla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rrie Martin Element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What are Literature Circles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79080" y="1599840"/>
            <a:ext cx="5349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are small reading groups.  Each group consists of 4 or 5 stude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ach group has a book to re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ooks will be given to your group from Ms. Bousk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What are Literature Circles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ach group reads at its own pa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ce a week, groups get together to talk about what they’re read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How Literature Circles Wor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very week, each group gives itself a reading assig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 preparation for each week’s Literature Circles meeting, students read their assigned pages/chapt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complete one of five Literature Circles job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Job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iscussion Dire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s high-level questions to be used for group discuss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ord Find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ocates and defines unknown and/or interesting vocabulary words in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ne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akes events from the book and connects them to real-life experi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Job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s letters to characters in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llustrates scenes from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Meeting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tudents find a spot in the classroom to mee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y bring their books and completed job shee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tudents talk about what they read, and they share, one at a time, their job shee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uring meetings, it’s everyone’s job to………talk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2:46:30Z</dcterms:created>
  <dc:creator>Coley</dc:creator>
  <dc:description/>
  <dc:language>en-US</dc:language>
  <cp:lastModifiedBy>bouskaj</cp:lastModifiedBy>
  <dcterms:modified xsi:type="dcterms:W3CDTF">2008-11-13T15:40:38Z</dcterms:modified>
  <cp:revision>75</cp:revision>
  <dc:subject/>
  <dc:title>Literature Circ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